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CA46-F68D-4422-A1B8-8F25B680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F5F-6C9A-42EA-90A3-306337A3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285-F633-43F5-8327-851F56D7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373-12A2-48DB-8CA4-A7FBB4F9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E4B-6B11-44F9-B2A9-F563C23F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3C0-D4BC-45F5-9896-1018E523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D05-A481-478A-8AA4-342EB87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2F6-51C3-49E9-861C-5A2266D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4C-3BF5-448A-8F35-0BF55C9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18F-EFE9-479C-99FE-1B45FE8E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AA1-7C47-4198-AD49-EDC47CB8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CF5-00F1-4CB4-B86C-895BB3B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D31-8F16-42EE-ADDB-AD7A042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DD2-9414-47BC-8F6E-8626F30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F57-C852-4FD3-B2F7-54C8775EE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3_02"/>
          <p:cNvPicPr/>
          <p:nvPr/>
        </p:nvPicPr>
        <p:blipFill>
          <a:blip r:embed="rId1"/>
          <a:stretch/>
        </p:blipFill>
        <p:spPr>
          <a:xfrm>
            <a:off x="533520" y="642960"/>
            <a:ext cx="78483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3_03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3_04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3_05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unter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unter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3_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15:59Z</dcterms:modified>
  <cp:revision>82</cp:revision>
  <dc:subject/>
  <dc:title>CRS Chapter 4</dc:title>
</cp:coreProperties>
</file>